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330-A952-47D3-9B85-32F09AE6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44F-039C-407A-AD94-278E3607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305-8866-4985-81F0-FB8D75AD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3C5-3FB6-4EC6-B66F-AFB92DD9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64A-7604-4892-B7E0-CA93C0B7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A9A-9192-4AD5-842E-D1727183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F070-3A61-4739-91C1-771DD069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176-4497-4022-B541-132BDDEF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18A-FA67-4E0E-B0B1-0D7C6187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076-1BBE-4C1A-BEE0-F6DA8467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FE9-8F62-4792-B282-D98AF671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9CDE-6910-4DB8-B281-75D5DE37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373D-9F40-4B71-8609-DBF316849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youtube.com/watch?v=zReFspAoODA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5-3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: John M and Nick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177120"/>
            <a:ext cx="76197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ing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vide a polynomial by a monomial, divide each term of the polynomial by the mo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vide a trinomial by a binomial, try to factor the trinomial. If you can, then cancel any common binomial factors in the divisor and the divid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common binomial factor, or if the degree of the dividend is greater than 2, use long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ividing a polynomial by a binomial using long division, any terms missing in the dividend must be written explicitly, using a coefficient of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54100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3733920" cy="67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5120" y="1752480"/>
            <a:ext cx="3047760" cy="1289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52680" y="3276720"/>
            <a:ext cx="3657600" cy="142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715000" y="5257800"/>
            <a:ext cx="243828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62320" y="19051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a little confused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53080" y="3200400"/>
            <a:ext cx="1941480" cy="2852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52680" y="4800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20:31:34Z</dcterms:created>
  <dc:creator>kelly munchel</dc:creator>
  <dc:description/>
  <dc:language>en-US</dc:language>
  <cp:lastModifiedBy>kelly munchel</cp:lastModifiedBy>
  <dcterms:modified xsi:type="dcterms:W3CDTF">2009-12-20T21:00:54Z</dcterms:modified>
  <cp:revision>4</cp:revision>
  <dc:subject/>
  <dc:title>Section 5-3  Dividing Polynomials</dc:title>
</cp:coreProperties>
</file>